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2D7F3-8239-4549-9FC2-5E003EE850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135EC-7C38-40A4-AF0E-8BFDA88EA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recently approved to manage work program; pop steering committees in Cai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BB858-4320-4044-A171-35D43C0E1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C624C-005C-4403-9836-BCB6ECD50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481F0-24B4-4C9B-A8B4-3790FC435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1A22C-8FCE-4497-9CAC-497B12A4D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E6FBA-D23F-4848-B2CF-DCF192A25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lide reflects the existing ALAC liaison and ccNSO Observer to the Council. Note that the current and proposed By-Laws provide for additional liaisons to be appointed/exchanged by other ICANN SOs and A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0E041-C550-490D-BF27-5C0DA8F8C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lide reflects the existing ALAC liaison and ccNSO Observer to the Council. Note that the current and proposed By-Laws provide for additional liaisons to be appointed/exchanged by other ICANN SOs and A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F2309-174F-4CBA-8110-E3984E456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lide reflects the existing ALAC liaison and ccNSO Observer to the Council. Note that the current and proposed By-Laws provide for additional liaisons to be appointed/exchanged by other ICANN SOs and A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B4C10-4DC1-4774-9C0F-99F11AB59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96BEC-1A12-4A58-83A0-46841331D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4276B-BCFF-47EF-8088-496D47800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7AF0D-55F6-4989-B6D4-78C317EC9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AE7-A072-4EF3-9B6E-2D9DA517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0EF-FA5B-44B9-9FF2-5751AF0F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127BAD-9416-48A6-9DD9-996DCBBA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8F2D5C-F944-43FC-844C-C3636507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5C997A-F2D8-4617-BD0D-49BE1E82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D06B27-AC13-4022-A92B-D8F7A223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6D73B4-BD90-43CF-BDA7-02FDDF0D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78853C-FD10-4F33-9E22-797D176B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05C78C-E2B2-47DB-A32A-6A2DC8D2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51096F-4E67-4E76-A965-ABE6ED21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82533F-985E-487C-B4B6-CFDDA502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0461C2-7CF8-44EF-9BE9-998D2690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6C8-EE8B-40AD-A8C4-FE4A657B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88FFDD-521B-4107-A6C1-A0325DAD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28D038-8E1B-432F-B230-8D261322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96FAC2-22FA-4E5C-A083-048DE537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A2B7B7-70F6-4294-8088-D98EAFF3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6BA011-6561-4C43-A4E6-CBE11E2D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1ECC9C-F475-4693-8AF1-6255191B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22C9B4-AE8B-433B-B528-3AAB75EE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56CE71-59DD-4B9F-9F94-A468D793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2F4C22-7B5C-4738-9166-BEC817BC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3C1DBE-6839-42AF-850A-1F203995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0C0-0474-44F1-BC4C-64016615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4DA142-CE68-4E16-A052-F8AF5C5B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BBC91C-BCC2-4E1E-BBA0-7B2959E1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0E134F-9C5A-4508-BF93-2F7465AC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82143C-9946-4AF2-B65D-7E55A92F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D4A967-FD97-4677-AF60-528FB84A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6430A4-6334-4A01-840A-654086A1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682607-2438-4C2E-9252-A6CE705F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0158F6-E1BC-460A-8366-BFAB86E2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6C4FB8-544D-442A-B407-20B2D6EF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220113-599C-48EA-B28B-C9394D3D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82D7B6-AF03-45A6-9971-50154947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EB9A2F-9AAC-4BDA-BC39-94706A52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ACFAD2-D0AD-48E6-9FB9-7374E5DB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62C6F3-E691-4C94-8774-CE2B5CC9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6C36AD-B1D1-4A8F-BE30-8D9675A5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92EDCF-825A-4125-8184-BC8F7B88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B77964-CF05-4DFF-AADA-29574F12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974E72-26A4-4D9A-A429-FF0D89C3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7153D8-BE26-49A1-8AEB-BF2FC4AE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A075A3-475F-4C7A-A238-D0FBB077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FAA62B-FC0A-499A-A19C-D2AEEC1D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AD2E66-3876-4475-AA21-4D2D3579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C0287D-BD3C-454E-9D1E-341A9949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DD5114-B258-4BBC-8BC7-52DE8E49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9582A4-CF9F-4A00-9106-2E0E8823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BA0A14-73E7-4178-AE0F-4C303FB7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DBD3E3-B153-4C70-A19E-8F864709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9E7FD1-2B43-4B99-9D29-1992A789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A977C9-69C0-4662-A9B9-4342C6FF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748168-2EF5-48CD-804B-2B75169C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4EA522-92FD-4F77-8251-8E357973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CB2C6E-00EF-485E-8388-4E8326C3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8649EE-DE76-41A8-9C52-3BE43159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6D31AC-29A2-457B-938D-3268F1D8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568FB2-4CBD-4689-A8F2-2C9670A5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65859A-D0E6-4BCB-88AA-21437C2C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011845-AA29-4C96-B3F7-E64BD8EA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6CC-E22B-4E1F-AAD1-E0F1DB38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3B676-7192-4003-A488-B6ECB563D6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93177-58DA-44B7-9F77-37A9A3CF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09AAE-8D59-4D3D-B4B6-96F90B32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23BD6-0C2C-4581-9FC4-9B0D64F9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C2B2E-6B47-4AC8-A25D-E4F90097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F9E-8B47-4C5A-A49C-94BA4D07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7B712-F676-4590-8918-5B35E7F5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EF495-1151-4BC7-98C1-DC16054B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DCC09-0875-4C64-95F6-645BD92F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CACBF-92D3-4519-8431-6A6FACD5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3EF5F-9317-4FD5-9208-78FDFEAE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3A983-E73A-4B0E-8549-51D820DC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F6052-57D8-4759-B72D-20DDEC3EA2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16AB5-6C99-45EA-BD1B-0613483E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8302E-2E98-4359-99C4-5DD34C56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03BF1-48C7-4C99-9150-30C3A505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CEA-17CE-4066-9C57-70404455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1F81B-4A86-46DB-A180-FBDBAA00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77B7E-F585-4A23-A8FC-9C9AA41C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B8EDA-183F-4DE9-9E3D-033F9664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6DE81-9813-40A7-84E7-F72C4ABF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77ADF-F927-4737-B012-55E455BD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16E0C-6BCB-49CD-96FF-FB56B163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421EA-3AE2-48AF-A80E-B98C5B6E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1D38B-73D8-4222-B9CD-7E68BDC0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B3FDF-0EE7-4C65-831B-00E714E1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7456AA-B799-496B-BE6F-6C4FC9E3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3F2-6128-4F52-9607-53366AF6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041E1-66FA-4494-9897-A041B0B5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8B1FBC-17EA-4B96-B0E0-0D3BFABC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DC85E4-24C4-4C4F-BF4D-E257D951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68A3C-0792-4F9C-8814-B92E897C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EBB60-98F1-438D-8122-FEB5D43D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88FB5C-5686-4E5D-8881-29C404FB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5C34C-AFD2-4F04-B31D-A3625422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A7BB5-4628-4795-A2A1-F68DF083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48F5D-2FED-4E5F-8D90-7037B601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58A105-FEF4-41C8-A126-A50AE615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B3A-E929-4DC4-87A0-77C140A1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EB5FF-5C22-49DA-87EA-3319C0D1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0524EB-88AC-4CAC-8FB6-DFD2FB88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177570-51E4-4D7B-A047-CAE9935F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10D9E-07B9-4F73-8365-7880A55B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4095F-8277-4A58-8D00-B5E29841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92E00-05AA-4F1E-89E3-F970514B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21F264-50C3-444B-B0AC-E924A750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0478DC-31B0-4605-95DE-E231A163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D7641-55EC-473F-A923-A5F3071A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8EF9A-BDC1-4859-88A9-D9A7E084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64F-A89C-4406-B834-2CC24E53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9BB246-FDE6-45F1-B209-E305FCE5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69F5B2-A97C-4A6D-B93E-6436C391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0A4FB-427F-4B66-B50A-E2B03D20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3D0BF3-04DB-449C-8301-EAC99B6F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EEF03D-E291-45F4-BA39-4668AD7B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7E337C-43D1-4B66-8695-5860CD0E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7F4144-6931-4165-9BCE-1DE4C7B4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A5B767-2454-49E2-824A-3F8092EE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83AD1F-783A-4046-84EC-BD1315BC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C3A62D-CAC6-432D-8E73-20A197E5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7A9-A912-403C-B2B3-B52F3A48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1106AE-3518-40C5-8ACE-F6C146D7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7E1506-B45C-41D0-A77B-7ECAC17D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9663E9-015A-427C-B2A2-CD8616BD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D40CED-9223-4A9A-A36D-7A5A0740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A7046-50B0-4FCF-8335-6258C601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F3923F-14D2-4216-B8C0-A13FAF42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6860BE-3D0B-4C75-B331-B2B8F31C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BBF98-8312-4495-8DF7-3519BF47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ED28F9-C7D3-4E29-8EC8-456BECD5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6EF748-0BDE-4DE4-A974-7A53F8A1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5AF-A229-4BA1-8E8D-4912B19F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3EC4F5-2B74-4938-891A-72DA010D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978AFF-495C-4CD6-B266-E535A5B2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F62A0-FD03-4748-996F-0055A669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E4F4FA-FE7A-4C3E-A061-C6C24225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2BE8EF-8A3F-4496-A64F-CC5AD573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0061EB-622F-4089-91D5-56905DD6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61BDC5-258A-4B18-AD12-0EFB7BA7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314087-AC09-44E8-BD71-52511265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BB2E3C-5C22-4DE7-BC80-0DF7513B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CB45E0-0037-4373-9425-85818BB5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adb4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862c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862c94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e558a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877E7-6AD5-469E-8438-ADFA77FF526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0054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71b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142f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4" descr="syd-logo-155x92.png"/>
          <p:cNvPicPr/>
          <p:nvPr/>
        </p:nvPicPr>
        <p:blipFill>
          <a:blip r:embed="rId2"/>
          <a:stretch/>
        </p:blipFill>
        <p:spPr>
          <a:xfrm>
            <a:off x="4114800" y="5918040"/>
            <a:ext cx="1260360" cy="7495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adb4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862c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862c94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00548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38F90-8912-4984-8616-7E25F5549F4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syd-logo-155x92.png"/>
          <p:cNvPicPr/>
          <p:nvPr/>
        </p:nvPicPr>
        <p:blipFill>
          <a:blip r:embed="rId2"/>
          <a:stretch/>
        </p:blipFill>
        <p:spPr>
          <a:xfrm>
            <a:off x="4114800" y="5918040"/>
            <a:ext cx="1260360" cy="74952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adb4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862c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862c94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0548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09E0A-93AB-43C3-865E-EA9C621DE64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9" descr="syd-logo-155x92.png"/>
          <p:cNvPicPr/>
          <p:nvPr/>
        </p:nvPicPr>
        <p:blipFill>
          <a:blip r:embed="rId2"/>
          <a:stretch/>
        </p:blipFill>
        <p:spPr>
          <a:xfrm>
            <a:off x="4114800" y="5918040"/>
            <a:ext cx="1260360" cy="749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adb4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862c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862c94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0548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575E0-B7F8-49AC-B457-597891582DC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adb4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862c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862c94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0548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ABFFA-A3E1-440D-AFF4-B3E23E76E2B1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bridge-bw.png"/>
          <p:cNvPicPr/>
          <p:nvPr/>
        </p:nvPicPr>
        <p:blipFill>
          <a:blip r:embed="rId3"/>
          <a:stretch/>
        </p:blipFill>
        <p:spPr>
          <a:xfrm>
            <a:off x="4633920" y="227160"/>
            <a:ext cx="4444920" cy="217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63360" y="2135160"/>
            <a:ext cx="9020160" cy="1527120"/>
          </a:xfrm>
          <a:prstGeom prst="rect">
            <a:avLst/>
          </a:prstGeom>
          <a:solidFill>
            <a:srgbClr val="0054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082960"/>
            <a:ext cx="9020160" cy="120600"/>
          </a:xfrm>
          <a:prstGeom prst="rect">
            <a:avLst/>
          </a:prstGeom>
          <a:solidFill>
            <a:srgbClr val="142f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63360" y="3662280"/>
            <a:ext cx="9020160" cy="111240"/>
          </a:xfrm>
          <a:prstGeom prst="rect">
            <a:avLst/>
          </a:prstGeom>
          <a:solidFill>
            <a:srgbClr val="002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ICANNsydney.jpg"/>
          <p:cNvPicPr/>
          <p:nvPr/>
        </p:nvPicPr>
        <p:blipFill>
          <a:blip r:embed="rId4"/>
          <a:stretch/>
        </p:blipFill>
        <p:spPr>
          <a:xfrm>
            <a:off x="3083040" y="304920"/>
            <a:ext cx="2819160" cy="1665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a1829">
                <a:alpha val="67000"/>
              </a:srgbClr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adb4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862c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862c94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syd-logo-155x92.png"/>
          <p:cNvPicPr/>
          <p:nvPr/>
        </p:nvPicPr>
        <p:blipFill>
          <a:blip r:embed="rId2"/>
          <a:stretch/>
        </p:blipFill>
        <p:spPr>
          <a:xfrm>
            <a:off x="4114800" y="5918040"/>
            <a:ext cx="1260360" cy="749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adb4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862c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862c94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0548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D62C1-B27A-43D7-BDD6-3AC458EEBB4E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Rounded Rectangle 10"/>
          <p:cNvGrpSpPr/>
          <p:nvPr/>
        </p:nvGrpSpPr>
        <p:grpSpPr>
          <a:xfrm>
            <a:off x="55440" y="60480"/>
            <a:ext cx="9033120" cy="6711840"/>
            <a:chOff x="55440" y="60480"/>
            <a:chExt cx="9033120" cy="6711840"/>
          </a:xfrm>
        </p:grpSpPr>
        <p:pic>
          <p:nvPicPr>
            <p:cNvPr id="133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55440" y="60480"/>
              <a:ext cx="90331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002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0054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0054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6" descr="syd-logo-155x92.png"/>
          <p:cNvPicPr/>
          <p:nvPr/>
        </p:nvPicPr>
        <p:blipFill>
          <a:blip r:embed="rId4"/>
          <a:stretch/>
        </p:blipFill>
        <p:spPr>
          <a:xfrm>
            <a:off x="4114800" y="5918040"/>
            <a:ext cx="1260360" cy="749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adb4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862c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862c94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7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00548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52613-8C47-4A49-8E35-B42E525B0CD3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syd-logo-155x92.png"/>
          <p:cNvPicPr/>
          <p:nvPr/>
        </p:nvPicPr>
        <p:blipFill>
          <a:blip r:embed="rId2"/>
          <a:stretch/>
        </p:blipFill>
        <p:spPr>
          <a:xfrm>
            <a:off x="4114800" y="5918040"/>
            <a:ext cx="1260360" cy="7495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adb4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862c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862c94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0548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3BD56-B1D9-45E4-864E-FB995CD8ABE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syd-logo-155x92.png"/>
          <p:cNvPicPr/>
          <p:nvPr/>
        </p:nvPicPr>
        <p:blipFill>
          <a:blip r:embed="rId2"/>
          <a:stretch/>
        </p:blipFill>
        <p:spPr>
          <a:xfrm>
            <a:off x="4114800" y="5918040"/>
            <a:ext cx="1260360" cy="7495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adb4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862c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862c94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0548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21E17-482B-41BF-8ABF-FE0E4D2E9138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syd-logo-155x92.png"/>
          <p:cNvPicPr/>
          <p:nvPr/>
        </p:nvPicPr>
        <p:blipFill>
          <a:blip r:embed="rId2"/>
          <a:stretch/>
        </p:blipFill>
        <p:spPr>
          <a:xfrm>
            <a:off x="4114800" y="5918040"/>
            <a:ext cx="1260360" cy="7495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adb4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862c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862c94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0548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ECAC1-FBBE-4225-9867-309E888FC1D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9" descr="syd-logo-155x92.png"/>
          <p:cNvPicPr/>
          <p:nvPr/>
        </p:nvPicPr>
        <p:blipFill>
          <a:blip r:embed="rId2"/>
          <a:stretch/>
        </p:blipFill>
        <p:spPr>
          <a:xfrm>
            <a:off x="4114800" y="5918040"/>
            <a:ext cx="1260360" cy="74952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adb4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862c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862c94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0548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9E2EC-B767-4C9F-8E74-D043CEADB0EF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1" descr="syd-logo-155x92.png"/>
          <p:cNvPicPr/>
          <p:nvPr/>
        </p:nvPicPr>
        <p:blipFill>
          <a:blip r:embed="rId2"/>
          <a:stretch/>
        </p:blipFill>
        <p:spPr>
          <a:xfrm>
            <a:off x="4114800" y="5918040"/>
            <a:ext cx="1260360" cy="7495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adb4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862c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862c94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0548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1B00E-6B26-441A-993B-383A6060A15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mailto:Policy-staff@icann.org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gnso.icann.org/en/improvements/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June 20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Calibri"/>
              </a:rPr>
              <a:t>Denise Mich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Calibri"/>
              </a:rPr>
              <a:t>VP-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NSO Improvements Update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Title 1" descr=""/>
          <p:cNvPicPr/>
          <p:nvPr/>
        </p:nvPicPr>
        <p:blipFill>
          <a:blip r:embed="rId1"/>
          <a:stretch/>
        </p:blipFill>
        <p:spPr>
          <a:xfrm>
            <a:off x="817560" y="285840"/>
            <a:ext cx="7802640" cy="1635120"/>
          </a:xfrm>
          <a:prstGeom prst="rect">
            <a:avLst/>
          </a:prstGeom>
          <a:ln w="0">
            <a:noFill/>
          </a:ln>
        </p:spPr>
      </p:pic>
      <p:pic>
        <p:nvPicPr>
          <p:cNvPr id="655" name="Content Placeholder 4" descr=""/>
          <p:cNvPicPr/>
          <p:nvPr/>
        </p:nvPicPr>
        <p:blipFill>
          <a:blip r:embed="rId2"/>
          <a:stretch/>
        </p:blipFill>
        <p:spPr>
          <a:xfrm>
            <a:off x="822240" y="1889280"/>
            <a:ext cx="7675560" cy="4724280"/>
          </a:xfrm>
          <a:prstGeom prst="rect">
            <a:avLst/>
          </a:prstGeom>
          <a:ln w="0">
            <a:noFill/>
          </a:ln>
        </p:spPr>
      </p:pic>
      <p:sp>
        <p:nvSpPr>
          <p:cNvPr id="656" name="Slide Number Placeholder 3"/>
          <p:cNvSpPr/>
          <p:nvPr/>
        </p:nvSpPr>
        <p:spPr>
          <a:xfrm>
            <a:off x="8610480" y="6416640"/>
            <a:ext cx="457200" cy="365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1F0E2-36B9-4434-BB73-547B9EFB86C7}" type="slidenum">
              <a:rPr b="0" lang="en-US" sz="14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5"/>
          <p:cNvSpPr/>
          <p:nvPr/>
        </p:nvSpPr>
        <p:spPr>
          <a:xfrm>
            <a:off x="-19080" y="0"/>
            <a:ext cx="9163080" cy="132552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8c0da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Title 1" descr=""/>
          <p:cNvPicPr/>
          <p:nvPr/>
        </p:nvPicPr>
        <p:blipFill>
          <a:blip r:embed="rId1"/>
          <a:stretch/>
        </p:blipFill>
        <p:spPr>
          <a:xfrm>
            <a:off x="895320" y="208080"/>
            <a:ext cx="7267680" cy="1365120"/>
          </a:xfrm>
          <a:prstGeom prst="rect">
            <a:avLst/>
          </a:prstGeom>
          <a:ln w="0">
            <a:noFill/>
          </a:ln>
        </p:spPr>
      </p:pic>
      <p:sp>
        <p:nvSpPr>
          <p:cNvPr id="659" name="Text Placeholder 2"/>
          <p:cNvSpPr/>
          <p:nvPr/>
        </p:nvSpPr>
        <p:spPr>
          <a:xfrm>
            <a:off x="457200" y="1758960"/>
            <a:ext cx="8458200" cy="38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60000"/>
              </a:lnSpc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1800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b5395"/>
                </a:solidFill>
                <a:latin typeface="Calibri"/>
              </a:rPr>
              <a:t>Operations Steering Committee:  Rob Hogg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60000"/>
              </a:lnSpc>
              <a:spcBef>
                <a:spcPts val="1800"/>
              </a:spcBef>
              <a:buClr>
                <a:srgbClr val="2e558a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5395"/>
                </a:solidFill>
                <a:latin typeface="Calibri"/>
                <a:ea typeface="ＭＳ Ｐゴシック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NSO Operations Team:  Julie Hedlund, Policy Consul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60000"/>
              </a:lnSpc>
              <a:spcBef>
                <a:spcPts val="1800"/>
              </a:spcBef>
              <a:buClr>
                <a:srgbClr val="2e558a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tituency Operations Team:  Julie Hedl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60000"/>
              </a:lnSpc>
              <a:spcBef>
                <a:spcPts val="1800"/>
              </a:spcBef>
              <a:buClr>
                <a:srgbClr val="2e558a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unications Team:  Ken Bour, Policy Consul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b5395"/>
                </a:solidFill>
                <a:latin typeface="Calibri"/>
              </a:rPr>
              <a:t>Policy Process Steering Committee:  Liz Gas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60000"/>
              </a:lnSpc>
              <a:spcBef>
                <a:spcPts val="1800"/>
              </a:spcBef>
              <a:buClr>
                <a:srgbClr val="2e558a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5395"/>
                </a:solidFill>
                <a:latin typeface="Calibri"/>
                <a:ea typeface="ＭＳ Ｐゴシック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PDP Team:  Margie Milam, Sr. Policy Counse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60000"/>
              </a:lnSpc>
              <a:spcBef>
                <a:spcPts val="1800"/>
              </a:spcBef>
              <a:buClr>
                <a:srgbClr val="2e558a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king Group Team:  Ken Bour, Policy Consul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2627280" y="1365120"/>
            <a:ext cx="3697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39bd"/>
                </a:solidFill>
                <a:uFillTx/>
                <a:latin typeface="Calibri"/>
                <a:hlinkClick r:id="rId2"/>
              </a:rPr>
              <a:t>Policy-staff@icann.org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Title 1" descr=""/>
          <p:cNvPicPr/>
          <p:nvPr/>
        </p:nvPicPr>
        <p:blipFill>
          <a:blip r:embed="rId1"/>
          <a:stretch/>
        </p:blipFill>
        <p:spPr>
          <a:xfrm>
            <a:off x="438120" y="285840"/>
            <a:ext cx="7651800" cy="720720"/>
          </a:xfrm>
          <a:prstGeom prst="rect">
            <a:avLst/>
          </a:prstGeom>
          <a:ln w="0">
            <a:noFill/>
          </a:ln>
        </p:spPr>
      </p:pic>
      <p:sp>
        <p:nvSpPr>
          <p:cNvPr id="662" name="TextBox 4"/>
          <p:cNvSpPr/>
          <p:nvPr/>
        </p:nvSpPr>
        <p:spPr>
          <a:xfrm>
            <a:off x="457200" y="9190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39bd"/>
                </a:solidFill>
                <a:uFillTx/>
                <a:latin typeface="Arial"/>
                <a:hlinkClick r:id="rId2"/>
              </a:rPr>
              <a:t>http://gnso.icann.org/en/improvements/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2" descr="C:\Users\KBOUR~1.KBO\AppData\Local\Temp\msohtmlclip1\01\clip_image001.png"/>
          <p:cNvPicPr/>
          <p:nvPr/>
        </p:nvPicPr>
        <p:blipFill>
          <a:blip r:embed="rId3"/>
          <a:stretch/>
        </p:blipFill>
        <p:spPr>
          <a:xfrm>
            <a:off x="304920" y="1442880"/>
            <a:ext cx="850572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le 1" descr=""/>
          <p:cNvPicPr/>
          <p:nvPr/>
        </p:nvPicPr>
        <p:blipFill>
          <a:blip r:embed="rId1"/>
          <a:stretch/>
        </p:blipFill>
        <p:spPr>
          <a:xfrm>
            <a:off x="438120" y="285840"/>
            <a:ext cx="8182080" cy="1280880"/>
          </a:xfrm>
          <a:prstGeom prst="rect">
            <a:avLst/>
          </a:prstGeom>
          <a:ln w="0">
            <a:noFill/>
          </a:ln>
        </p:spPr>
      </p:pic>
      <p:sp>
        <p:nvSpPr>
          <p:cNvPr id="590" name="Content Placeholder 2"/>
          <p:cNvSpPr/>
          <p:nvPr/>
        </p:nvSpPr>
        <p:spPr>
          <a:xfrm>
            <a:off x="457200" y="1557360"/>
            <a:ext cx="838188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GNSO is subject to periodic independent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Current review began in Februar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Key objectives of GNSO re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8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Maximizing stakeholder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8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Ensuring recommendations can be developed on clearly defined gTLD "consensus policies" for Boar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8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Policy development is based on thoroughly-researched, well-scoped objectives and operated in a predictable manner to ensure effective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8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Improving communications and administrativ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F43A2-8033-469E-8271-F33F32C4B0E0}" type="slidenum">
              <a:rPr b="0" lang="en-US" sz="1400" spc="-1" strike="noStrike">
                <a:solidFill>
                  <a:srgbClr val="424456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4"/>
          <p:cNvSpPr/>
          <p:nvPr/>
        </p:nvSpPr>
        <p:spPr>
          <a:xfrm>
            <a:off x="2209680" y="1600200"/>
            <a:ext cx="838440" cy="3352680"/>
          </a:xfrm>
          <a:custGeom>
            <a:avLst/>
            <a:gdLst>
              <a:gd name="textAreaLeft" fmla="*/ 0 w 838440"/>
              <a:gd name="textAreaRight" fmla="*/ 302760 w 838440"/>
              <a:gd name="textAreaTop" fmla="*/ 86040 h 3352680"/>
              <a:gd name="textAreaBottom" fmla="*/ 326664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88"/>
                  <a:pt x="10800" y="1775"/>
                </a:cubicBezTo>
                <a:lnTo>
                  <a:pt x="10800" y="9025"/>
                </a:lnTo>
                <a:cubicBezTo>
                  <a:pt x="10800" y="9913"/>
                  <a:pt x="16200" y="10800"/>
                  <a:pt x="21600" y="10800"/>
                </a:cubicBezTo>
                <a:cubicBezTo>
                  <a:pt x="16200" y="10800"/>
                  <a:pt x="10800" y="11688"/>
                  <a:pt x="10800" y="12575"/>
                </a:cubicBezTo>
                <a:lnTo>
                  <a:pt x="10800" y="19825"/>
                </a:lnTo>
                <a:cubicBezTo>
                  <a:pt x="10800" y="20713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3200400" y="1219320"/>
            <a:ext cx="2514600" cy="2286000"/>
          </a:xfrm>
          <a:prstGeom prst="rect">
            <a:avLst/>
          </a:prstGeom>
          <a:gradFill rotWithShape="0">
            <a:gsLst>
              <a:gs pos="0">
                <a:srgbClr val="477647"/>
              </a:gs>
              <a:gs pos="50000">
                <a:srgbClr val="99ff99"/>
              </a:gs>
              <a:gs pos="100000">
                <a:srgbClr val="47764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5715000" y="1219320"/>
            <a:ext cx="2514600" cy="2286000"/>
          </a:xfrm>
          <a:prstGeom prst="rect">
            <a:avLst/>
          </a:pr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8"/>
          <p:cNvSpPr/>
          <p:nvPr/>
        </p:nvSpPr>
        <p:spPr>
          <a:xfrm>
            <a:off x="3200400" y="3498840"/>
            <a:ext cx="2514600" cy="2286000"/>
          </a:xfrm>
          <a:prstGeom prst="rect">
            <a:avLst/>
          </a:pr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5676840" y="3498840"/>
            <a:ext cx="2514600" cy="2286000"/>
          </a:xfrm>
          <a:prstGeom prst="rect">
            <a:avLst/>
          </a:prstGeom>
          <a:gradFill rotWithShape="0">
            <a:gsLst>
              <a:gs pos="0">
                <a:srgbClr val="477647"/>
              </a:gs>
              <a:gs pos="50000">
                <a:srgbClr val="99ff99"/>
              </a:gs>
              <a:gs pos="100000">
                <a:srgbClr val="47764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10"/>
          <p:cNvSpPr/>
          <p:nvPr/>
        </p:nvSpPr>
        <p:spPr>
          <a:xfrm>
            <a:off x="4648320" y="2933640"/>
            <a:ext cx="2286000" cy="1143000"/>
          </a:xfrm>
          <a:prstGeom prst="roundRect">
            <a:avLst>
              <a:gd name="adj" fmla="val 16667"/>
            </a:avLst>
          </a:prstGeom>
          <a:solidFill>
            <a:srgbClr val="dede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Title 1" descr=""/>
          <p:cNvPicPr/>
          <p:nvPr/>
        </p:nvPicPr>
        <p:blipFill>
          <a:blip r:embed="rId1"/>
          <a:stretch/>
        </p:blipFill>
        <p:spPr>
          <a:xfrm>
            <a:off x="517680" y="-19080"/>
            <a:ext cx="7924680" cy="125100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12"/>
          <p:cNvSpPr/>
          <p:nvPr/>
        </p:nvSpPr>
        <p:spPr>
          <a:xfrm>
            <a:off x="533520" y="1846440"/>
            <a:ext cx="1828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ased upon input from the independent reviews, the ICANN Board identified these areas for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13"/>
          <p:cNvSpPr/>
          <p:nvPr/>
        </p:nvSpPr>
        <p:spPr>
          <a:xfrm>
            <a:off x="3200400" y="1219320"/>
            <a:ext cx="5029200" cy="457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5791320" y="1859040"/>
            <a:ext cx="222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 Working Group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6"/>
          <p:cNvSpPr/>
          <p:nvPr/>
        </p:nvSpPr>
        <p:spPr>
          <a:xfrm>
            <a:off x="3336840" y="4356000"/>
            <a:ext cx="222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Constit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7"/>
          <p:cNvSpPr/>
          <p:nvPr/>
        </p:nvSpPr>
        <p:spPr>
          <a:xfrm>
            <a:off x="5821200" y="4349880"/>
            <a:ext cx="222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8"/>
          <p:cNvSpPr/>
          <p:nvPr/>
        </p:nvSpPr>
        <p:spPr>
          <a:xfrm>
            <a:off x="3336840" y="1846440"/>
            <a:ext cx="222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 the Policy 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9"/>
          <p:cNvSpPr/>
          <p:nvPr/>
        </p:nvSpPr>
        <p:spPr>
          <a:xfrm>
            <a:off x="4678200" y="3184560"/>
            <a:ext cx="222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SO Council Re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Title 1" descr=""/>
          <p:cNvPicPr/>
          <p:nvPr/>
        </p:nvPicPr>
        <p:blipFill>
          <a:blip r:embed="rId1"/>
          <a:stretch/>
        </p:blipFill>
        <p:spPr>
          <a:xfrm>
            <a:off x="438120" y="633240"/>
            <a:ext cx="8261280" cy="9828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456840" y="17521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e-House, 22-person Counc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 Unique Constituencies with 3 representatives each (Business, IPC, ISP, NCUC, Registry, Registrar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ree voting Nominating Committee Appointe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racted Parties hold 12 votes; Non-Contracted Parties hold 12 vo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e Non-voting Liaison - AL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2e55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e Observer - ccN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8c0da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3"/>
          <p:cNvSpPr/>
          <p:nvPr/>
        </p:nvSpPr>
        <p:spPr>
          <a:xfrm>
            <a:off x="6553080" y="644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Content Placeholder 35" descr=""/>
          <p:cNvPicPr/>
          <p:nvPr/>
        </p:nvPicPr>
        <p:blipFill>
          <a:blip r:embed="rId1"/>
          <a:stretch/>
        </p:blipFill>
        <p:spPr>
          <a:xfrm>
            <a:off x="901800" y="974880"/>
            <a:ext cx="7394400" cy="4895640"/>
          </a:xfrm>
          <a:prstGeom prst="rect">
            <a:avLst/>
          </a:prstGeom>
          <a:ln w="0">
            <a:noFill/>
          </a:ln>
        </p:spPr>
      </p:pic>
      <p:sp>
        <p:nvSpPr>
          <p:cNvPr id="611" name="Rounded Rectangle 12"/>
          <p:cNvSpPr/>
          <p:nvPr/>
        </p:nvSpPr>
        <p:spPr>
          <a:xfrm>
            <a:off x="6705720" y="1905120"/>
            <a:ext cx="982440" cy="396720"/>
          </a:xfrm>
          <a:prstGeom prst="roundRect">
            <a:avLst>
              <a:gd name="adj" fmla="val 16667"/>
            </a:avLst>
          </a:prstGeom>
          <a:solidFill>
            <a:srgbClr val="83bcc1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C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itle 1" descr=""/>
          <p:cNvPicPr/>
          <p:nvPr/>
        </p:nvPicPr>
        <p:blipFill>
          <a:blip r:embed="rId2"/>
          <a:stretch/>
        </p:blipFill>
        <p:spPr>
          <a:xfrm>
            <a:off x="895320" y="-19080"/>
            <a:ext cx="7400880" cy="1025640"/>
          </a:xfrm>
          <a:prstGeom prst="rect">
            <a:avLst/>
          </a:prstGeom>
          <a:ln w="0">
            <a:noFill/>
          </a:ln>
        </p:spPr>
      </p:pic>
      <p:sp>
        <p:nvSpPr>
          <p:cNvPr id="613" name="TextBox 6"/>
          <p:cNvSpPr/>
          <p:nvPr/>
        </p:nvSpPr>
        <p:spPr>
          <a:xfrm>
            <a:off x="457200" y="5867280"/>
            <a:ext cx="3124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* Non-voting liaison-  counted as a memb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** Observer  - not counted as a memb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ounded Rectangle 8"/>
          <p:cNvSpPr/>
          <p:nvPr/>
        </p:nvSpPr>
        <p:spPr>
          <a:xfrm>
            <a:off x="1676520" y="1905120"/>
            <a:ext cx="1218960" cy="338040"/>
          </a:xfrm>
          <a:prstGeom prst="roundRect">
            <a:avLst>
              <a:gd name="adj" fmla="val 50000"/>
            </a:avLst>
          </a:prstGeom>
          <a:solidFill>
            <a:srgbClr val="83bcc1"/>
          </a:solidFill>
          <a:ln w="9360">
            <a:solidFill>
              <a:srgbClr val="add2d6"/>
            </a:solidFill>
            <a:miter/>
          </a:ln>
          <a:effectLst>
            <a:outerShdw dist="2556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NSO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3"/>
          <p:cNvSpPr/>
          <p:nvPr/>
        </p:nvSpPr>
        <p:spPr>
          <a:xfrm>
            <a:off x="6553080" y="644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Content Placeholder 35" descr=""/>
          <p:cNvPicPr/>
          <p:nvPr/>
        </p:nvPicPr>
        <p:blipFill>
          <a:blip r:embed="rId1"/>
          <a:stretch/>
        </p:blipFill>
        <p:spPr>
          <a:xfrm>
            <a:off x="517680" y="974880"/>
            <a:ext cx="8175600" cy="5097240"/>
          </a:xfrm>
          <a:prstGeom prst="rect">
            <a:avLst/>
          </a:prstGeom>
          <a:ln w="0">
            <a:noFill/>
          </a:ln>
        </p:spPr>
      </p:pic>
      <p:sp>
        <p:nvSpPr>
          <p:cNvPr id="617" name="TextBox 43"/>
          <p:cNvSpPr/>
          <p:nvPr/>
        </p:nvSpPr>
        <p:spPr>
          <a:xfrm>
            <a:off x="533520" y="6291360"/>
            <a:ext cx="2882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egend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:   { } Voting;   ( ) Non-Vo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ounded Rectangle 12"/>
          <p:cNvSpPr/>
          <p:nvPr/>
        </p:nvSpPr>
        <p:spPr>
          <a:xfrm>
            <a:off x="6746760" y="1859040"/>
            <a:ext cx="982800" cy="396720"/>
          </a:xfrm>
          <a:prstGeom prst="roundRect">
            <a:avLst>
              <a:gd name="adj" fmla="val 16667"/>
            </a:avLst>
          </a:prstGeom>
          <a:solidFill>
            <a:srgbClr val="83bcc1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C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Up Arrow Callout 13"/>
          <p:cNvSpPr/>
          <p:nvPr/>
        </p:nvSpPr>
        <p:spPr>
          <a:xfrm>
            <a:off x="1720800" y="3535200"/>
            <a:ext cx="1501920" cy="427320"/>
          </a:xfrm>
          <a:prstGeom prst="upArrowCallout">
            <a:avLst>
              <a:gd name="adj1" fmla="val 24996"/>
              <a:gd name="adj2" fmla="val 24994"/>
              <a:gd name="adj3" fmla="val 25000"/>
              <a:gd name="adj4" fmla="val 70041"/>
            </a:avLst>
          </a:prstGeom>
          <a:solidFill>
            <a:srgbClr val="22404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ting N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Up Arrow Callout 14"/>
          <p:cNvSpPr/>
          <p:nvPr/>
        </p:nvSpPr>
        <p:spPr>
          <a:xfrm>
            <a:off x="5996160" y="3535200"/>
            <a:ext cx="1501560" cy="427320"/>
          </a:xfrm>
          <a:prstGeom prst="upArrowCallout">
            <a:avLst>
              <a:gd name="adj1" fmla="val 24990"/>
              <a:gd name="adj2" fmla="val 24988"/>
              <a:gd name="adj3" fmla="val 25000"/>
              <a:gd name="adj4" fmla="val 70041"/>
            </a:avLst>
          </a:prstGeom>
          <a:solidFill>
            <a:srgbClr val="99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ting N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Title 1" descr=""/>
          <p:cNvPicPr/>
          <p:nvPr/>
        </p:nvPicPr>
        <p:blipFill>
          <a:blip r:embed="rId2"/>
          <a:stretch/>
        </p:blipFill>
        <p:spPr>
          <a:xfrm>
            <a:off x="285840" y="133200"/>
            <a:ext cx="8413560" cy="1025640"/>
          </a:xfrm>
          <a:prstGeom prst="rect">
            <a:avLst/>
          </a:prstGeom>
          <a:ln w="0">
            <a:noFill/>
          </a:ln>
        </p:spPr>
      </p:pic>
      <p:sp>
        <p:nvSpPr>
          <p:cNvPr id="622" name="Rounded Rectangle 15"/>
          <p:cNvSpPr/>
          <p:nvPr/>
        </p:nvSpPr>
        <p:spPr>
          <a:xfrm>
            <a:off x="1600200" y="1859040"/>
            <a:ext cx="1066680" cy="396720"/>
          </a:xfrm>
          <a:prstGeom prst="roundRect">
            <a:avLst>
              <a:gd name="adj" fmla="val 16667"/>
            </a:avLst>
          </a:prstGeom>
          <a:solidFill>
            <a:srgbClr val="83bcc1"/>
          </a:solidFill>
          <a:ln w="9360">
            <a:solidFill>
              <a:srgbClr val="1f4171"/>
            </a:solidFill>
            <a:miter/>
          </a:ln>
          <a:effectLst>
            <a:outerShdw dist="2556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NSO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7"/>
          <p:cNvSpPr/>
          <p:nvPr/>
        </p:nvSpPr>
        <p:spPr>
          <a:xfrm>
            <a:off x="5791320" y="6168960"/>
            <a:ext cx="304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Non-voting Liaison – counted as a memb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**Observer – not counted as a memb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2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DD7ED-50F5-4836-8BB6-4430EBD0043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457200" y="1765440"/>
            <a:ext cx="7164360" cy="1295280"/>
          </a:xfrm>
          <a:prstGeom prst="rect">
            <a:avLst/>
          </a:prstGeom>
          <a:gradFill rotWithShape="0">
            <a:gsLst>
              <a:gs pos="0">
                <a:srgbClr val="1f3b3e"/>
              </a:gs>
              <a:gs pos="50000">
                <a:srgbClr val="438086"/>
              </a:gs>
              <a:gs pos="100000">
                <a:srgbClr val="1f3b3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762120" y="2719440"/>
            <a:ext cx="7238880" cy="1279440"/>
          </a:xfrm>
          <a:prstGeom prst="rect">
            <a:avLst/>
          </a:pr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1066680" y="3670200"/>
            <a:ext cx="7315200" cy="1279800"/>
          </a:xfrm>
          <a:prstGeom prst="rect">
            <a:avLst/>
          </a:prstGeom>
          <a:gradFill rotWithShape="0">
            <a:gsLst>
              <a:gs pos="0">
                <a:srgbClr val="2f765e"/>
              </a:gs>
              <a:gs pos="50000">
                <a:srgbClr val="66ffcc"/>
              </a:gs>
              <a:gs pos="100000">
                <a:srgbClr val="2f76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1371600" y="4635360"/>
            <a:ext cx="7315200" cy="939960"/>
          </a:xfrm>
          <a:prstGeom prst="rect">
            <a:avLst/>
          </a:prstGeom>
          <a:gradFill rotWithShape="0">
            <a:gsLst>
              <a:gs pos="0">
                <a:srgbClr val="477647"/>
              </a:gs>
              <a:gs pos="50000">
                <a:srgbClr val="99ff99"/>
              </a:gs>
              <a:gs pos="100000">
                <a:srgbClr val="47764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8"/>
          <p:cNvSpPr/>
          <p:nvPr/>
        </p:nvSpPr>
        <p:spPr>
          <a:xfrm>
            <a:off x="874800" y="28447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Calibri"/>
                <a:ea typeface="Times New Roman"/>
              </a:rPr>
              <a:t>Phase 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-confirmation of Existing GNSO Constituencies; submitted Feb 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9"/>
          <p:cNvSpPr/>
          <p:nvPr/>
        </p:nvSpPr>
        <p:spPr>
          <a:xfrm>
            <a:off x="533520" y="1874880"/>
            <a:ext cx="70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Calibri"/>
                <a:ea typeface="Times New Roman"/>
              </a:rPr>
              <a:t>Phase 1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GNSO Council Restructuring Effort:  Council Seat transition matters; Bylaw Amendment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20"/>
          <p:cNvSpPr/>
          <p:nvPr/>
        </p:nvSpPr>
        <p:spPr>
          <a:xfrm>
            <a:off x="1120680" y="374652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Calibri"/>
                <a:ea typeface="Times New Roman"/>
              </a:rPr>
              <a:t>Phase 3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oard Approval of New GNSO Stakeholder Groups; initial formal plans submitted March 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1"/>
          <p:cNvSpPr/>
          <p:nvPr/>
        </p:nvSpPr>
        <p:spPr>
          <a:xfrm>
            <a:off x="1479600" y="4635360"/>
            <a:ext cx="693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Calibri"/>
                <a:ea typeface="Times New Roman"/>
              </a:rPr>
              <a:t>Phase 4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uncil representatives selected by Stakeholder Groups and the new GNSO Council is s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Title 1" descr=""/>
          <p:cNvPicPr/>
          <p:nvPr/>
        </p:nvPicPr>
        <p:blipFill>
          <a:blip r:embed="rId1"/>
          <a:stretch/>
        </p:blipFill>
        <p:spPr>
          <a:xfrm>
            <a:off x="450720" y="476280"/>
            <a:ext cx="77853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Title 1" descr=""/>
          <p:cNvPicPr/>
          <p:nvPr/>
        </p:nvPicPr>
        <p:blipFill>
          <a:blip r:embed="rId1"/>
          <a:stretch/>
        </p:blipFill>
        <p:spPr>
          <a:xfrm>
            <a:off x="396720" y="225360"/>
            <a:ext cx="7936200" cy="1000080"/>
          </a:xfrm>
          <a:prstGeom prst="rect">
            <a:avLst/>
          </a:prstGeom>
          <a:ln w="0">
            <a:noFill/>
          </a:ln>
        </p:spPr>
      </p:pic>
      <p:pic>
        <p:nvPicPr>
          <p:cNvPr id="635" name="Title 1" descr=""/>
          <p:cNvPicPr/>
          <p:nvPr/>
        </p:nvPicPr>
        <p:blipFill>
          <a:blip r:embed="rId2"/>
          <a:stretch/>
        </p:blipFill>
        <p:spPr>
          <a:xfrm>
            <a:off x="396720" y="1139760"/>
            <a:ext cx="7936200" cy="774720"/>
          </a:xfrm>
          <a:prstGeom prst="rect">
            <a:avLst/>
          </a:prstGeom>
          <a:ln w="0">
            <a:noFill/>
          </a:ln>
        </p:spPr>
      </p:pic>
      <p:pic>
        <p:nvPicPr>
          <p:cNvPr id="636" name="Diagram 8" descr=""/>
          <p:cNvPicPr/>
          <p:nvPr/>
        </p:nvPicPr>
        <p:blipFill>
          <a:blip r:embed="rId3"/>
          <a:stretch/>
        </p:blipFill>
        <p:spPr>
          <a:xfrm>
            <a:off x="517680" y="1901880"/>
            <a:ext cx="8181720" cy="3657600"/>
          </a:xfrm>
          <a:prstGeom prst="rect">
            <a:avLst/>
          </a:prstGeom>
          <a:ln w="0">
            <a:noFill/>
          </a:ln>
        </p:spPr>
      </p:pic>
      <p:sp>
        <p:nvSpPr>
          <p:cNvPr id="637" name="TextBox 5"/>
          <p:cNvSpPr/>
          <p:nvPr/>
        </p:nvSpPr>
        <p:spPr>
          <a:xfrm>
            <a:off x="533520" y="55515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*Public Forum Closes 10 Ju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Title 1" descr=""/>
          <p:cNvPicPr/>
          <p:nvPr/>
        </p:nvPicPr>
        <p:blipFill>
          <a:blip r:embed="rId1"/>
          <a:stretch/>
        </p:blipFill>
        <p:spPr>
          <a:xfrm>
            <a:off x="438120" y="-19080"/>
            <a:ext cx="7651800" cy="12510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4"/>
          <p:cNvSpPr/>
          <p:nvPr/>
        </p:nvSpPr>
        <p:spPr>
          <a:xfrm>
            <a:off x="685800" y="1219320"/>
            <a:ext cx="7620120" cy="533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685800" y="1981080"/>
            <a:ext cx="7620120" cy="533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685800" y="2797200"/>
            <a:ext cx="7620120" cy="533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685800" y="3543480"/>
            <a:ext cx="7620120" cy="533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8"/>
          <p:cNvSpPr/>
          <p:nvPr/>
        </p:nvSpPr>
        <p:spPr>
          <a:xfrm>
            <a:off x="685800" y="4267080"/>
            <a:ext cx="7620120" cy="533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9"/>
          <p:cNvSpPr/>
          <p:nvPr/>
        </p:nvSpPr>
        <p:spPr>
          <a:xfrm>
            <a:off x="685800" y="5067360"/>
            <a:ext cx="7620120" cy="533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0"/>
          <p:cNvSpPr/>
          <p:nvPr/>
        </p:nvSpPr>
        <p:spPr>
          <a:xfrm>
            <a:off x="1231920" y="1352520"/>
            <a:ext cx="65419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76767"/>
              </a:gs>
              <a:gs pos="50000">
                <a:srgbClr val="dedede"/>
              </a:gs>
              <a:gs pos="100000">
                <a:srgbClr val="6767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2"/>
          <p:cNvSpPr/>
          <p:nvPr/>
        </p:nvSpPr>
        <p:spPr>
          <a:xfrm>
            <a:off x="1231920" y="2114640"/>
            <a:ext cx="65419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76767"/>
              </a:gs>
              <a:gs pos="50000">
                <a:srgbClr val="dedede"/>
              </a:gs>
              <a:gs pos="100000">
                <a:srgbClr val="6767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4"/>
          <p:cNvSpPr/>
          <p:nvPr/>
        </p:nvSpPr>
        <p:spPr>
          <a:xfrm>
            <a:off x="1231920" y="2876400"/>
            <a:ext cx="65419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76767"/>
              </a:gs>
              <a:gs pos="50000">
                <a:srgbClr val="dedede"/>
              </a:gs>
              <a:gs pos="100000">
                <a:srgbClr val="6767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  <a:ea typeface="Times New Roman"/>
              </a:rPr>
              <a:t>Board action on Renewing Constit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6"/>
          <p:cNvSpPr/>
          <p:nvPr/>
        </p:nvSpPr>
        <p:spPr>
          <a:xfrm>
            <a:off x="1231920" y="3638520"/>
            <a:ext cx="65419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76767"/>
              </a:gs>
              <a:gs pos="50000">
                <a:srgbClr val="dedede"/>
              </a:gs>
              <a:gs pos="100000">
                <a:srgbClr val="6767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18"/>
          <p:cNvSpPr/>
          <p:nvPr/>
        </p:nvSpPr>
        <p:spPr>
          <a:xfrm>
            <a:off x="1231920" y="4400640"/>
            <a:ext cx="65419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76767"/>
              </a:gs>
              <a:gs pos="50000">
                <a:srgbClr val="dedede"/>
              </a:gs>
              <a:gs pos="100000">
                <a:srgbClr val="6767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  <a:ea typeface="Times New Roman"/>
              </a:rPr>
              <a:t>Board action on Board Seats #13 and #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0"/>
          <p:cNvSpPr/>
          <p:nvPr/>
        </p:nvSpPr>
        <p:spPr>
          <a:xfrm>
            <a:off x="1231920" y="5162400"/>
            <a:ext cx="65419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76767"/>
              </a:gs>
              <a:gs pos="50000">
                <a:srgbClr val="dedede"/>
              </a:gs>
              <a:gs pos="100000">
                <a:srgbClr val="6767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  <a:ea typeface="Times New Roman"/>
              </a:rPr>
              <a:t>Amend Bylaws to accommodate GNSO Re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9"/>
          <p:cNvSpPr/>
          <p:nvPr/>
        </p:nvSpPr>
        <p:spPr>
          <a:xfrm>
            <a:off x="1292400" y="2141640"/>
            <a:ext cx="558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  <a:ea typeface="Times New Roman"/>
              </a:rPr>
              <a:t>Board action on New Constituency Pet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1292400" y="3692520"/>
            <a:ext cx="627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  <a:ea typeface="Times New Roman"/>
              </a:rPr>
              <a:t>Board action on Individual Users (TB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3"/>
          <p:cNvSpPr/>
          <p:nvPr/>
        </p:nvSpPr>
        <p:spPr>
          <a:xfrm>
            <a:off x="1299600" y="1352520"/>
            <a:ext cx="48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  <a:ea typeface="Times New Roman"/>
              </a:rPr>
              <a:t>Board action on Stakeholder Group Cha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0T02:32:38Z</dcterms:created>
  <dc:creator>Tanzanica S. King</dc:creator>
  <dc:description/>
  <dc:language>en-US</dc:language>
  <cp:lastModifiedBy>Denise Michel</cp:lastModifiedBy>
  <cp:lastPrinted>2009-04-17T00:12:50Z</cp:lastPrinted>
  <dcterms:modified xsi:type="dcterms:W3CDTF">2009-06-22T21:22:18Z</dcterms:modified>
  <cp:revision>47</cp:revision>
  <dc:subject/>
  <dc:title>ICANN 35 | Sydney 2009</dc:title>
</cp:coreProperties>
</file>